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937-65AB-4C81-9636-8C804E66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D7BB-B4F8-4F4A-8690-DFFAD00D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886-662C-46A2-B12D-EE9AE14C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21D-5D0F-4E84-AFFC-16FA0E60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81A51-22FA-48B1-B839-2D84A54E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E3902-D13E-4D94-847C-566F8255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302BB-E0AF-4063-866F-CF6CF097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42113-7274-413A-BB4D-290175BB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71F38-3F3C-4E51-A97D-9CE4F643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1DFA3-36C8-4342-8D27-4EA24A8B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EA564-B56E-4C05-BF85-511CF4F2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1E11-F61E-449D-9769-04C7C84A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46412-DD43-4E49-B5E5-D076670D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7D516-3557-4AED-8092-6C119577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24E7C-341F-48CC-890D-D9EE9E72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CA2B2-C6E4-444E-8439-42759C1C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E9BC1-6CFF-4449-87A5-1949535E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976-285F-414C-9D04-B8FD7E17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959-BC6A-4A62-ADA8-6407348C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D5E2-5919-4BAD-A516-021F0ACB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9C5-25A5-4E4E-8AA4-7526B2BC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5D0A-D95C-443A-A17C-619D88F7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7EBF-E7F6-4AB6-A40E-EC293F8A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6EC9-CD8B-4159-B2B0-DF1F74C7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3095-FFCB-4C4C-B6C9-1A831D482F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A23A-BCE2-4FD5-8225-C562964E25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Тема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Качественная и количественная характеристики объектов недвижим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Качество местоположения недвижимости (Ситус)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ана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1916280"/>
            <a:ext cx="7417080" cy="338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421000"/>
            <a:ext cx="6696000" cy="2448000"/>
          </a:xfrm>
          <a:prstGeom prst="ellipse">
            <a:avLst/>
          </a:prstGeom>
          <a:solidFill>
            <a:srgbClr val="3399ff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2852640"/>
            <a:ext cx="5256360" cy="1513080"/>
          </a:xfrm>
          <a:prstGeom prst="ellipse">
            <a:avLst/>
          </a:prstGeom>
          <a:solidFill>
            <a:srgbClr val="3399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3284640"/>
            <a:ext cx="2808360" cy="576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335772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вижи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1989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орговая з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2492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мыкающие терри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2924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ижайшие окрест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557360"/>
            <a:ext cx="8208720" cy="431964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5229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Г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ИТУ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ЗУЛЬТАТ ВЗАИМОДЕЙСТВИЯ КОНКРЕТНОГО ВАРИАНТА ЗЕМЛЕПОЛЬЗОВАНИЯ И ЭКОНОМИЧЕСКОЙ СРЕДЫ НА ПЯТИ УРОВНЯХ (СТРАНА, РЕГИОН, ТОРГОВАЯ ЗОНА, ПРИМЫКАЮЩИЕ И БЛИЖАЙШИЕ ТЕРРИТОРИ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нешняя среда недвижим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213000"/>
            <a:ext cx="1871640" cy="1152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движим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1989000"/>
            <a:ext cx="251964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ит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ту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3284640"/>
            <a:ext cx="2016360" cy="720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изость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в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4221000"/>
            <a:ext cx="2016360" cy="720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лич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5084640"/>
            <a:ext cx="201636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1557360"/>
            <a:ext cx="2592360" cy="79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родные усло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1916280"/>
            <a:ext cx="2376720" cy="79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прос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ложе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2924280"/>
            <a:ext cx="1728720" cy="93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сстоя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о рын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бы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4076640"/>
            <a:ext cx="172872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лич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5157720"/>
            <a:ext cx="2232000" cy="719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мограф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ре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5516640"/>
            <a:ext cx="2303640" cy="936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змож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феры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724360" y="3284280"/>
            <a:ext cx="863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51640" y="4076640"/>
            <a:ext cx="936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59280" y="2492280"/>
            <a:ext cx="12970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716360" y="242100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059280" y="2565000"/>
            <a:ext cx="14414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843280" y="3500280"/>
            <a:ext cx="936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43280" y="4076640"/>
            <a:ext cx="936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42920" y="4365720"/>
            <a:ext cx="158436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436572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4365720"/>
            <a:ext cx="12970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требительские свойства земельных участ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емельный участ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часть поверхности земли, имеющая четко обозначенную границу, площадь, местоположение, правовой статус и другие характеристики, учитываемые в государственном земельном кадастре и Едином государственном реестре прав на недвижимое имущество и сделок с ним. Бывают делимыми и неделим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Делимый земельный участ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читается такой участок, который может быть разделен на части, каждая из которых после раздела по своему размеру образует самостоятельный участок с прежним целевым назначением и разрешенным использова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адастровый номер участ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362440" cy="4103640"/>
        </p:xfrm>
        <a:graphic>
          <a:graphicData uri="http://schemas.openxmlformats.org/drawingml/2006/table">
            <a:tbl>
              <a:tblPr/>
              <a:tblGrid>
                <a:gridCol w="1252800"/>
                <a:gridCol w="3783600"/>
                <a:gridCol w="33260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1х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бъект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бъект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3х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дминистративный рай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льская администр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й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ел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астровый масси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астровый кварт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астровый кварт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8х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ельный участ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ельный участ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писание земельного участ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600200"/>
          <a:ext cx="8229600" cy="5172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субъекта права - Адрес, документы удостоверяющие субъекта и его реквиз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дресные ориентиры - Жилой массив, поселок, улица и номер до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кументы , устанавливающие землепользование ( Постановление, свидетельство, договор – аренды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тегория земель - Целевое назначение и фактическое использ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классификатора зем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ощадь по документам, в том числе постороннего 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ощадь санитарно-защитной зоны и (или) зоны с особым режимом использования в пределах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земельного права (собственность, временное пользование…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верхностный и подпочвенный слой, ландшафт, топограф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лучшения и инженерное обустрой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аспорт земельного участ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спликация зем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мер земельного налога или арендной пла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ыночная и расчетная стоимость уча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алансовая стоимость строений и сооружений на участ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щая стоимость (стр.3+стр.4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лог на недвижим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женерно-технические характерист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ологические показат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радостроительные характерист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лежи полезных ископаем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тегории земель по потребительским свойствам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95280" y="1600200"/>
          <a:ext cx="8424720" cy="5213520"/>
        </p:xfrm>
        <a:graphic>
          <a:graphicData uri="http://schemas.openxmlformats.org/drawingml/2006/table">
            <a:tbl>
              <a:tblPr/>
              <a:tblGrid>
                <a:gridCol w="1247760"/>
                <a:gridCol w="4368960"/>
                <a:gridCol w="2808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тег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нные по Оренбургской области (млн. г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льскохозяйственного назна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населенных пунк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промышленности, транспорта, связи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обо охраняемые территор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сной ф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ный ф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запа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земельный ф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,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исание зданий и соору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требительские свойства земельных учас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иды лесов и многолетних насажд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особленные водные объек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стки не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о уровню хозяйственной освоенности участки могут быть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застроенными, предназначенными под строительст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строенны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объектами незавершенного строитель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ветхими застройками (под снос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объектами подлежащими вывод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обод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иды лесов и многолетних насажд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Функции ле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ологическая (климаторегулирующая, почвозащитная, водоохранная, санитарно-гигиеническа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ономическая (источник древесины и множества видов потребительской продукци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циальная (оздоровительная, улучшает условия жизни люде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остав лес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600200"/>
          <a:ext cx="8507520" cy="4965840"/>
        </p:xfrm>
        <a:graphic>
          <a:graphicData uri="http://schemas.openxmlformats.org/drawingml/2006/table">
            <a:tbl>
              <a:tblPr/>
              <a:tblGrid>
                <a:gridCol w="2127240"/>
                <a:gridCol w="2125800"/>
                <a:gridCol w="2127240"/>
                <a:gridCol w="212724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лесного фон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входящие в лесной фон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евесно-кустарниковая растительность на земля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ле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рытые лес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ля нужд лесного хозя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са на землях Министерства обор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ельскохозяйст-венного назнач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д болот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нспорта (на полосах отвода дорог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крытые, но предназначен- ные для его восстанов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д каменистыми россыпя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одские ле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дного фонда (на полосах отвода канало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руг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ачные учас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Классификация лесов по категории защищенности земель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1600200"/>
          <a:ext cx="8362800" cy="4843440"/>
        </p:xfrm>
        <a:graphic>
          <a:graphicData uri="http://schemas.openxmlformats.org/drawingml/2006/table">
            <a:tbl>
              <a:tblPr/>
              <a:tblGrid>
                <a:gridCol w="2090520"/>
                <a:gridCol w="2163960"/>
                <a:gridCol w="2270160"/>
                <a:gridCol w="1838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атегории защищен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охранные, защитные, санитарно-гигиенические, оздоровительные, особоохраняем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охранные, оздоровительные, санитарно-гигиенические, ограниченно эксплуатацио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сплуатационные при сохранении экологичес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сто располож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претные и защитные полосы, леса пустынь, поселений, куро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регионах с высокой плотностью населения или недостаточными лесными ресурс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много лесных регион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е допускаетс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упля – продажа, залог и совершение других сделок, которые могут повлечь отчуждение  участков лесного фон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Лесной фонд является федеральной собственностью. Допускается передача части фондов в собственность субъектов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ризнаки классификации многолетних насаждени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виду продукции (плодово-ягодные; техническ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функциональному назначению (живые изгороди;  полезащитные; декоративно-озеленительны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возрасту вступления в товарное использ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сроку эксплуатации (плодово-ягодные 10-30 лет; технические 10-50 лет; озеленительные 50-100 л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летние насаждения могут быть в собственности граждан без ограничения сделок (купля – продажа, залог, аренда, траст, дарение, наследовани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бособленные водные объек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бособленные водные объект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это небольшие по площади и непроточные искусственные водоемы, не имеющие гидравлической связи с другими поверхностными водными объек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тношения регулируются Водным Кодексом Р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Возможные цели использова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питьевого и хозяйственно-бытового водоснабж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здравоо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сельского и лесного хозяй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соспла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гидроэнергетики и пожарной безопас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рыбного и охотничьего хозяй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добычи полезных ископаемых, торфа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писание зданий и сооружени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жимы водопольз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ее водопольз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альное водопользование (с применением технических средств, устройств и сооружений при наличии лицензии, за исключением плавания на маломерных суда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Участки нед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едра -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часть земной коры, расположенная ниже почвенного слоя, а при его отсутствии – ниже земной поверхности и дна водоемов, простирающейся до глубин, доступных для геологического изучения и осво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Участки недр являются государственным недвижимым имуществом. Права пользования недрами могут передаваться субъектам предпринимательск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Государственный кадастр месторождений и проявлений полезных ископаемых содержит следующие сведения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 основных и совместно залегающих полезных ископаем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содержащихся в них компонент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горно-технических и иных условиях разработ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геолого-экономической оценке месторожд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выявленных проявлениях полезных ископаем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лицензиях на пользование недр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работах по геологическому изучению не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Государственный баланс запасов полезных ископаемых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назначен для учета минерально-сырьевой базы и содержит свед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количестве, качестве и степени изученности запасов каждого вида полезных ископаемых по месторождениям, имеющим промышленное назнач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 их размещении и степени промышленного осво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 обеспеченности промышленности разведанными полезными ископаем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чественная и количественная информация о собственн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7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изические характеристик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мущественно-правовое описа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кономические показател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остояние внешней сред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Местоположение объекта (Кадастровый номер здания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886280"/>
        </p:xfrm>
        <a:graphic>
          <a:graphicData uri="http://schemas.openxmlformats.org/drawingml/2006/table">
            <a:tbl>
              <a:tblPr/>
              <a:tblGrid>
                <a:gridCol w="1522440"/>
                <a:gridCol w="6707160"/>
              </a:tblGrid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 федер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административного округа (г. Оренбург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4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массива кадастрового кварта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земельного участка в квартал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первичного объекта на участ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вторичного объекта, как составная часть первично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Физические характеристики здания, сооруж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имен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лощадь, объем, высо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териал стен, крыши, перекрыт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мя построй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чень дефектов по видам и размеру (дефектная ведомость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спертная оценка стоимости объекта и его отдельных эле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Эксплуатационные качеств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структивная надежность и и физическая долговеч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ункциональное соответств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рхитектурно-планировочное соответствие назнач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кономичность строительства и эксплуат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ргономические показател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опасность эксплуат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мущественно правовое описа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О СОБСТВЕННОСТИ (ВЛАДЕНИЕ, ПОЛЬЗОВАНИЕ, РАСПОРЯЖЕНИЕ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ЩНЫЕ ПРАВ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ГРАНИЧЕНИЯ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ГРАНИЧЕ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ервитуты – ограниченное вещное право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потека – залог недвижимост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ренда и доверительное управление – договорные обязатель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8:38:10Z</dcterms:created>
  <dc:creator>Джораев В.О.</dc:creator>
  <dc:description/>
  <dc:language>en-US</dc:language>
  <cp:lastModifiedBy>Джораев В.О.</cp:lastModifiedBy>
  <dcterms:modified xsi:type="dcterms:W3CDTF">2007-03-21T15:31:13Z</dcterms:modified>
  <cp:revision>6</cp:revision>
  <dc:subject/>
  <dc:title>Тема 2</dc:title>
</cp:coreProperties>
</file>